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60F-9FC1-4B6E-9824-8955F54F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F3D-412B-4ADD-A459-F1DB105A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900-79FD-413D-B816-F0782610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021-AB31-4787-8949-CD642C27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908-F012-46F3-8C3E-74901A69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B31-BC0F-46D2-98C7-BA9EC82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FA3-17FD-4348-8515-74A47A24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3A6-CE4E-409F-AFBD-C356449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A70-3ABC-41A3-B233-3ABADFF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805-4C31-4927-B8AD-FD0E71D7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00A-983A-4133-A8ED-682330F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518-487C-4258-A371-78B238F7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1E85-F92D-4C04-890B-8F94AB71C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roup of organisms of the same species, living in the same 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90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lankton"/>
          <p:cNvPicPr/>
          <p:nvPr/>
        </p:nvPicPr>
        <p:blipFill>
          <a:blip r:embed="rId1"/>
          <a:stretch/>
        </p:blipFill>
        <p:spPr>
          <a:xfrm>
            <a:off x="5181480" y="3200400"/>
            <a:ext cx="285768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66880" cy="2279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commun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al populations (of different species) living in the same 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3200400"/>
            <a:ext cx="2952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86400" y="1295280"/>
            <a:ext cx="5162400" cy="4224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mmunity and the place where it lives, including nonliving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29200" cy="4162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720" y="2787480"/>
            <a:ext cx="1524240" cy="723960"/>
          </a:xfrm>
          <a:prstGeom prst="borderCallout1">
            <a:avLst>
              <a:gd name="adj1" fmla="val 18750"/>
              <a:gd name="adj2" fmla="val -8333"/>
              <a:gd name="adj3" fmla="val 151754"/>
              <a:gd name="adj4" fmla="val 125731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1523880" cy="723960"/>
          </a:xfrm>
          <a:prstGeom prst="borderCallout1">
            <a:avLst>
              <a:gd name="adj1" fmla="val 18750"/>
              <a:gd name="adj2" fmla="val -8333"/>
              <a:gd name="adj3" fmla="val -875"/>
              <a:gd name="adj4" fmla="val -63125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200400"/>
            <a:ext cx="1828800" cy="723960"/>
          </a:xfrm>
          <a:prstGeom prst="borderCallout1">
            <a:avLst>
              <a:gd name="adj1" fmla="val 18750"/>
              <a:gd name="adj2" fmla="val -8333"/>
              <a:gd name="adj3" fmla="val -13814"/>
              <a:gd name="adj4" fmla="val -5034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living and nonliving things in an eco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otic - non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tic -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34290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le loosestrife is an invasive plant speci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urple loosestrife is just one of many invasive species affecting ecosystems in Wisconsin."/>
          <p:cNvPicPr/>
          <p:nvPr/>
        </p:nvPicPr>
        <p:blipFill>
          <a:blip r:embed="rId1"/>
          <a:stretch/>
        </p:blipFill>
        <p:spPr>
          <a:xfrm>
            <a:off x="4952880" y="16002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405160" cy="354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competes with native species in wetlands – and usually w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ttach to almost anything and eat all the small organis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closeup of zebra mussels on stick"/>
          <p:cNvPicPr/>
          <p:nvPr/>
        </p:nvPicPr>
        <p:blipFill>
          <a:blip r:embed="rId1"/>
          <a:stretch/>
        </p:blipFill>
        <p:spPr>
          <a:xfrm>
            <a:off x="1438200" y="1752480"/>
            <a:ext cx="290844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crayfish covered with zebra mussels"/>
          <p:cNvPicPr/>
          <p:nvPr/>
        </p:nvPicPr>
        <p:blipFill>
          <a:blip r:embed="rId2"/>
          <a:stretch/>
        </p:blipFill>
        <p:spPr>
          <a:xfrm>
            <a:off x="5181480" y="1752480"/>
            <a:ext cx="28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541008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1677960"/>
            <a:ext cx="5029200" cy="337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0492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size is also affected by living facto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dators limit the population of their pr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006720" cy="3733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ation can caus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inction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usually doe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happens when the predators are remo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5:03:01Z</dcterms:created>
  <dc:creator>Marguerite K Marcoux</dc:creator>
  <dc:description/>
  <dc:language>en-US</dc:language>
  <cp:lastModifiedBy>Administrator</cp:lastModifiedBy>
  <dcterms:modified xsi:type="dcterms:W3CDTF">2009-09-28T15:22:18Z</dcterms:modified>
  <cp:revision>8</cp:revision>
  <dc:subject/>
  <dc:title>Population size</dc:title>
</cp:coreProperties>
</file>